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673C-2A24-4DE8-BA43-8982F888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BB61-0B18-4CBF-8294-DD9C3A4E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121E-F0E2-444B-926C-6B2A24A25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661C-07E0-4D28-B406-56A75321B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4F74-2580-4F58-A7F1-7874E2B7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224B-ACA2-4288-8C2F-2B8200BB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9EAF-2444-4871-BB7F-6F77B218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C587-257A-4EEB-A9D2-D0F09DB4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FFB3-5D9E-49B2-8F43-4CB29677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E06D-95DD-42AC-80AB-AF2895A0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F011-E7AA-4B55-B597-234DFF64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80E0-69E3-4C23-93B6-9A20B2F8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25C4-A793-4C24-8FA9-016C164B10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onors Physics 200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Subtitle 2" descr=""/>
          <p:cNvPicPr/>
          <p:nvPr/>
        </p:nvPicPr>
        <p:blipFill>
          <a:blip r:embed="rId1"/>
          <a:stretch/>
        </p:blipFill>
        <p:spPr>
          <a:xfrm>
            <a:off x="1212840" y="2541600"/>
            <a:ext cx="641340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oals of this cou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epare students for the rigors of a college edu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king sure the best students have the best opportunit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pplying creativity to scientific ques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arning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multiple-ste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roblem solv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veloping an understanding of how the rules of nature guide to behavior of objects in the world around u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veloping proficiency in computer based data analys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king learning complex science topics interesting and fu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opics we cover in this cou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ment and data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tonian mechanics – how objects m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and global war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cs – Including light and co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nd and Wa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ear physics and nuclear po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at you need to succeed in this cour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willingness to be creative in solving problems and not being afraid of challeng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 ability to work with and to respect your classm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ing prepared for class including having your text, pen, pencil and composition book in class each da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veryone is a natural born learner – you need to foster your learning by finding and understanding your learning sty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sufficient understanding of basic algebraic and geometric concep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you will do in this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ing and note taking – from text and le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m-ups and clo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shop –concept and math orien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s, quizzes and alternate eval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jects for the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rading in this cou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otebook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= 100 points per quart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ests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 Quarterlies onl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ab worksheets/report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 10 points eac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class performanc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100 points per quart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ject Work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  30 points per quart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tle 3" descr=""/>
          <p:cNvPicPr/>
          <p:nvPr/>
        </p:nvPicPr>
        <p:blipFill>
          <a:blip r:embed="rId1"/>
          <a:stretch/>
        </p:blipFill>
        <p:spPr>
          <a:xfrm>
            <a:off x="96840" y="1822320"/>
            <a:ext cx="8955000" cy="1487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01:49:18Z</dcterms:created>
  <dc:creator>sebastian interlandi</dc:creator>
  <dc:description/>
  <dc:language>en-US</dc:language>
  <cp:lastModifiedBy>sebastian interlandi</cp:lastModifiedBy>
  <dcterms:modified xsi:type="dcterms:W3CDTF">2009-09-08T18:16:44Z</dcterms:modified>
  <cp:revision>11</cp:revision>
  <dc:subject/>
  <dc:title>Honors Physics 2008</dc:title>
</cp:coreProperties>
</file>